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D6E-5D79-424B-9A56-77EB9521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19B-3930-4C18-99BD-551C904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F9F-E527-4CCA-8142-22D6C4B0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DD1-D827-4488-9161-C1AB0F3A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08E3-2DAF-4813-9538-CAD15FE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45BE-C29C-464F-AB41-ABC4D3C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828C-50E2-4901-A136-8E4AC33B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D5CD-EC89-4E8A-84BE-2503A284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DF26-9A1F-436F-BF0D-C5B8501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A888-7A8D-4FED-8A15-2B2D594D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674B-7867-4D42-ABC6-7482787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18B-E303-41BA-96E6-CFA6902A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8F47-BBC4-41F8-9B0D-70CC93A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F2A9-BA4A-43D4-A949-DD98A68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15B5-1ED6-4B62-82A7-428F3DF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2ADE-610D-44F4-B004-64B69F9B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36F5-4502-481E-BA8A-B0FBE5CB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7AC-424C-42A6-9432-949422A9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A22-9159-4167-AFA1-803EF9D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F61-2FC9-4C49-85AD-FEBE85D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37D-8FAA-416A-970A-08E1CAD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CD5-5DC0-4474-9A0E-FAA4124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07B-D6A4-4827-A71A-67DF134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B93-891B-4E4C-A640-63022AB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9E1-C741-4CFE-9C30-50065110FD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B3A5-F79B-4C7E-9260-FB2CD27655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spellmaster/Pearl%20and%20Wagner/jigword2.html" TargetMode="External"/><Relationship Id="rId2" Type="http://schemas.openxmlformats.org/officeDocument/2006/relationships/hyperlink" Target="http://www.quia.com/ba/109568.html" TargetMode="External"/><Relationship Id="rId3" Type="http://schemas.openxmlformats.org/officeDocument/2006/relationships/hyperlink" Target="http://www.spellingcity.com/index.php?option=com_spellcity&amp;Itemid=122&amp;task=viewList&amp;listId=354236" TargetMode="External"/><Relationship Id="rId4" Type="http://schemas.openxmlformats.org/officeDocument/2006/relationships/hyperlink" Target="http://www.scottsboro.org/~flewis/SF%20Reading%20Street/Hot%20Potatoes/Pearl_&amp;_Wagner.htm" TargetMode="External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www.robotsandus.org/moving/" TargetMode="External"/><Relationship Id="rId2" Type="http://schemas.openxmlformats.org/officeDocument/2006/relationships/hyperlink" Target="http://www.in2english.com.cn/fyk/fyk.php?pageid=610" TargetMode="External"/><Relationship Id="rId3" Type="http://schemas.openxmlformats.org/officeDocument/2006/relationships/hyperlink" Target="http://www.firstschoolyears.com/literacy/word/phonics/vowels/interactive/sorting/e/lse.htm" TargetMode="External"/><Relationship Id="rId4" Type="http://schemas.openxmlformats.org/officeDocument/2006/relationships/hyperlink" Target="http://www.bbc.co.uk/schools/wordsandpictures/longvow/poems/flash/fpoem3.shtml" TargetMode="External"/><Relationship Id="rId5" Type="http://schemas.openxmlformats.org/officeDocument/2006/relationships/hyperlink" Target="http://www.bbc.co.uk/schools/wordsandpictures/longvow/poems/flash/fpoem3.shtml" TargetMode="External"/><Relationship Id="rId6" Type="http://schemas.openxmlformats.org/officeDocument/2006/relationships/hyperlink" Target="http://www.bbc.co.uk/schools/wordsandpictures/longvow/poems/flash/fpoem3.shtml" TargetMode="External"/><Relationship Id="rId7" Type="http://schemas.openxmlformats.org/officeDocument/2006/relationships/hyperlink" Target="http://www.ezschool.com/Games/Antonyms1.html" TargetMode="External"/><Relationship Id="rId8" Type="http://schemas.openxmlformats.org/officeDocument/2006/relationships/hyperlink" Target="http://vdc.engr.scu.edu/KnowItAll/English/2ndEnglish/2EG4_1.htm" TargetMode="External"/><Relationship Id="rId9" Type="http://schemas.openxmlformats.org/officeDocument/2006/relationships/hyperlink" Target="http://www.brainpop.com/english/grammar/antonymssynonymsandhomonyms/" TargetMode="External"/><Relationship Id="rId10" Type="http://schemas.openxmlformats.org/officeDocument/2006/relationships/hyperlink" Target="http://www.brainpop.com/technology/scienceandindustry/robots/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ckiblackwell.com/timer.html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8.xml"/><Relationship Id="rId3" Type="http://schemas.openxmlformats.org/officeDocument/2006/relationships/slide" Target="slide79.xml"/><Relationship Id="rId4" Type="http://schemas.openxmlformats.org/officeDocument/2006/relationships/slide" Target="slide93.xml"/><Relationship Id="rId5" Type="http://schemas.openxmlformats.org/officeDocument/2006/relationships/slide" Target="slide103.xm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6960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67652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3" name="Picture 18" descr="Pearl and Wag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2286000"/>
            <a:ext cx="247644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My teme made an robot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My team made a robo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teeth and eihgt wheels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as teeth and eight wheels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ds that show action are called verb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ran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a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et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e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y dog, Carlot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raw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r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ictures of plane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a puppy and his sidekick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Picture 19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constructed unique contraptions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574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s week we read about how to turn ideas into inventions.  Pearl and Wagner, the farmers, and Annie all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constructe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contraptions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.  How did they do it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pea is a seed from a p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meet Cindy at ho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d said the green jeep was not chea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teep cliff has a sharp pea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124080" y="1371600"/>
          <a:ext cx="3470400" cy="523728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52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science, pretty, won, gue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is a ____ picture you ma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re going to ___ her team play b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looked under my bed for the other 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about plants in ____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class___ the reading cont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 no know, just make a ____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lived in a little ____ over the 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47920" y="1981080"/>
          <a:ext cx="2819160" cy="38862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onstr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 -  str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If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something, you build it or put it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People native to the Artic regions used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shelters from snow and 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e Boy Scouts used wood, nails, a saw, and a hammer to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constru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birdhou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Hour project was really gude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Our project was really good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 fill we shood have won.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 feel we should have won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earch/Study Skills:  Gloss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lossaries give information about wo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ry words in a glossary are usually written in dark typ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entry word may be broken into syllab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finition, or what the word means, follow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entries have pictu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Fri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scribe a clubhou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 construct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9" name="Picture 19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458200" y="5791320"/>
            <a:ext cx="48744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cabulary &amp; Amaz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Jigwo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lling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2"/>
              </a:rPr>
              <a:t>Quia G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3"/>
              </a:rPr>
              <a:t>Spelling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Frequency Word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Verdana"/>
                <a:hlinkClick r:id="rId4"/>
              </a:rPr>
              <a:t>Hot Potatoes (fill-in-the-blank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We are now ready to </a:t>
            </a:r>
            <a:br>
              <a:rPr sz="4800"/>
            </a:br>
            <a:r>
              <a:rPr b="0" lang="en-US" sz="4800" spc="-1" strike="noStrike">
                <a:solidFill>
                  <a:srgbClr val="fcab40"/>
                </a:solidFill>
                <a:latin typeface="Verdana"/>
              </a:rPr>
              <a:t>take our story tests.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tory t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lassroom webpage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udent pa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aking Te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Other Reading Quizz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Quiz # 90460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Arial"/>
              </a:rPr>
              <a:t>Related Link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66680" y="2209680"/>
          <a:ext cx="7543800" cy="42735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Robot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2"/>
                        </a:rPr>
                        <a:t>I've Got a Robot Song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3"/>
                        </a:rPr>
                        <a:t>Picture Sort for long and short sounds of e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4"/>
                        </a:rPr>
                        <a:t>ea= long e sound</a:t>
                      </a: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5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6"/>
                        </a:rPr>
                        <a:t>Poem Pack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7"/>
                        </a:rPr>
                        <a:t>Antonym Match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8"/>
                        </a:rPr>
                        <a:t>Verb Quizz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9"/>
                        </a:rPr>
                        <a:t>Antonyms, Synonyms, and Homonyms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0"/>
                        </a:rPr>
                        <a:t>Robot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6" name="Picture 9" descr="Pearl and Wagner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8458200" y="5791320"/>
            <a:ext cx="48744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sideki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 - ki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If you hav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, you have a good friend and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ose two kids are always together; they are real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ue and h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idekick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nne are working on that puzz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uniq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 – ni – qu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is the only one lik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om’s grandmother made him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teddy bear when he was a bab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You can write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unique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eme        Stev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en you see e-consonant-e, the first e, says its name, and the second e is silent.  (When 2 vowels go walking, the first does the talking, and the second one stays quie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oday we will study other spellings for long 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as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ound you hear at the beginning of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sel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metimes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tands for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long 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2819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a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un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on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z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z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a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33"/>
                </a:solidFill>
                <a:latin typeface="Verdana"/>
              </a:rPr>
              <a:t>Small Groups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97c01"/>
                </a:solidFill>
                <a:uFillTx/>
                <a:latin typeface="Verdana"/>
                <a:hlinkClick r:id="rId1"/>
              </a:rPr>
              <a:t>Timer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1447920"/>
          <a:ext cx="5943600" cy="51814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mend, silly, greet, best, neat, sleep, slept, equal, </a:t>
            </a:r>
            <a:br>
              <a:rPr sz="18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replay, crease, lady, peck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05120" y="1447920"/>
          <a:ext cx="5943600" cy="51926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ong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rt 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p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7920" y="1981080"/>
          <a:ext cx="2819160" cy="38862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bo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as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i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8320" y="1676520"/>
          <a:ext cx="3927240" cy="4674960"/>
        </p:xfrm>
        <a:graphic>
          <a:graphicData uri="http://schemas.openxmlformats.org/drawingml/2006/table">
            <a:tbl>
              <a:tblPr/>
              <a:tblGrid>
                <a:gridCol w="392724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1800" spc="-1" strike="noStrike">
                <a:solidFill>
                  <a:srgbClr val="ebd189"/>
                </a:solidFill>
                <a:latin typeface="Arial"/>
              </a:rPr>
              <a:t>silly, greet, neat, sleep, equal, replay, crease, lady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Sort these long e words by spelling pattern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2743200"/>
          <a:ext cx="7772400" cy="3392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pla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ee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l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at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eas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ll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d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Word Reading:</a:t>
            </a:r>
            <a:br>
              <a:rPr sz="44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 and Short  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619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t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24080" y="1371600"/>
          <a:ext cx="3470400" cy="523728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52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Let’s Talk About</a:t>
            </a:r>
            <a:br>
              <a:rPr sz="4800"/>
            </a:b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ab40"/>
                </a:solidFill>
                <a:latin typeface="Arial"/>
              </a:rPr>
              <a:t>Creative Idea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Put the steps in order from first to last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3505320"/>
            <a:ext cx="4267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3760" y="350532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hink up an ide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et the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the inven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Try it 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Make necessary chang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inform or explain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entertai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describe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 can write to convince the reader to think or act in a certain w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83059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carl think of a idea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Carl thinks of an idea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then he make a meel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ab40"/>
                </a:solidFill>
                <a:latin typeface="Arial"/>
              </a:rPr>
              <a:t>Then he makes a mea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makes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a present for his da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makes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Ahmed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finds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hmed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find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a small flat piece of woo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aints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a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the wood yell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prints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cab40"/>
                </a:solidFill>
                <a:latin typeface="Arial"/>
              </a:rPr>
              <a:t>print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“The Best Dad” in bla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A 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574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bout something that makes you unique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Picture 26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One farmer has a smart idea for getting rid of the mice.  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09680" y="2133720"/>
          <a:ext cx="6096240" cy="33829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some farmers.  They have a problem with mice in their fields. 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One farmer has a smart idea for getting rid of the mice.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What do you think is a smart idea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ontrap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 – trap – tion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is something that is put together in a very odd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The strange machines the farmers made to catch the mice were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s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My dad put two baby buggies together to mak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the twins could ride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The coach made a </a:t>
            </a:r>
            <a:r>
              <a:rPr b="1" lang="en-US" sz="2800" spc="-1" strike="noStrike">
                <a:solidFill>
                  <a:srgbClr val="fcab40"/>
                </a:solidFill>
                <a:latin typeface="Verdana"/>
              </a:rPr>
              <a:t>contraption</a:t>
            </a:r>
            <a:r>
              <a:rPr b="0" lang="en-US" sz="2800" spc="-1" strike="noStrike">
                <a:solidFill>
                  <a:srgbClr val="b97c01"/>
                </a:solidFill>
                <a:latin typeface="Verdana"/>
              </a:rPr>
              <a:t> to wheel all the balls and other stuff 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foolproo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 - proo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omething that is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 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is so simple and safe that anybody can use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A cat is 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mouse catc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e most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foolproof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bike is a tricyc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daydrea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 – dream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When you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, you are awake but you are thinking of pleasant thing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On that cold winter day, I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bout going to the beac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Susan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daydreamed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bout how nice it would be to have her own ro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800" spc="-1" strike="noStrike">
                <a:solidFill>
                  <a:srgbClr val="ebd189"/>
                </a:solidFill>
                <a:latin typeface="Arial"/>
              </a:rPr>
              <a:t>e, ee, ea, 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queez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r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n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r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ck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: 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e, ee, ea, y</a:t>
            </a:r>
            <a:br>
              <a:rPr sz="4400"/>
            </a:b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Find the long e words in “Inventors Succeed.”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00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ream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quea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cc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533520"/>
            <a:ext cx="838512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Big Question: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How do inventors turn ideas into inventions?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666880"/>
            <a:ext cx="633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Long e Words</a:t>
            </a:r>
            <a:br>
              <a:rPr sz="40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dreamed, seek, happy, before, we, week, keep, each, succeed, need, squea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43000" y="2362320"/>
          <a:ext cx="7772400" cy="413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wee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kee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ucc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dreamed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each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squeak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ebd189"/>
                          </a:solidFill>
                          <a:latin typeface="Arial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e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deep sleep after the par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fell into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leep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fter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ar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leave with the te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got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lea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easy to re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ook was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teeth feel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ee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51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hind every invention is a good idea.  Everybody has good ideas.  How do inventors turn good ideas into inventions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uthor’s Purpo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has a reason for wri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inform or explain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enterta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describe someth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uthor can write to convince the reader to think or act in a certain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you read, think about what the story is abo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about why the author wrote the sto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ory Structure: 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  Setting, Characters, and Plo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read a story, think about where a story takes place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who’s in the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characte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, and what happens in the beginning, middle, and end of a story (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pl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about what happens first, next, and last in the story. Keeping track of what happens in order helps you understand the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124080" y="1371600"/>
          <a:ext cx="3470400" cy="5237280"/>
        </p:xfrm>
        <a:graphic>
          <a:graphicData uri="http://schemas.openxmlformats.org/drawingml/2006/table">
            <a:tbl>
              <a:tblPr/>
              <a:tblGrid>
                <a:gridCol w="3470400"/>
              </a:tblGrid>
              <a:tr h="52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gh-Frequency Word Re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2895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roug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et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machine with moving parts that is controlled by a compu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a round lump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something of little u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energy that makes light, heat, motion, or fo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Vocabulary Words:</a:t>
            </a:r>
            <a:br>
              <a:rPr sz="40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robot, wad, trash, electric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_____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ve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rob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our kitch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____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tra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eating rob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____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put a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wa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per in 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____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obot use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electric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chew up the pap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will ete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will eat soup for lunch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e lik a lot of chea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We like a lot of cheese on i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ells what something or someone do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word that shows action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oys </a:t>
            </a:r>
            <a:r>
              <a:rPr b="1" i="1" lang="en-US" sz="3600" spc="-1" strike="noStrike">
                <a:solidFill>
                  <a:srgbClr val="fcab40"/>
                </a:solidFill>
                <a:latin typeface="Arial"/>
              </a:rPr>
              <a:t>catch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the b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word catch is a </a:t>
            </a:r>
            <a:r>
              <a:rPr b="1" lang="en-US" sz="3600" spc="-1" strike="noStrike">
                <a:solidFill>
                  <a:srgbClr val="fcab40"/>
                </a:solidFill>
                <a:latin typeface="Arial"/>
              </a:rPr>
              <a:t>verb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.  It tells what the boys di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rite an idea for an invention you could use on the playground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5" name="Picture 21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188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eat corn, so farmers build mousetraps.  Cats are the best mousetraps though!  What else can cats do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512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Behin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every invention is a good idea. 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verybody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has good ideas.  How do inventors turn good ideas into inventions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6160" y="30492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057400" y="22860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ce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t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orn, so farmers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build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mousetraps.  Cats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r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the best mousetraps though!  What else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ca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cats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do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-frequency wo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y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82320" y="49536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earl &amp; Wagn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81080" y="3200400"/>
          <a:ext cx="6096240" cy="1736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 - ject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is something you plan and then 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Our class is working on a big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to paint a mural in the hall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This book report is turning out to be a bigger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project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than I exp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scra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A scrap is a tiny piece of something.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are often leftover from some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We gave the dog the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from din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My grandmother used </a:t>
            </a:r>
            <a:r>
              <a:rPr b="1" lang="en-US" sz="3200" spc="-1" strike="noStrike">
                <a:solidFill>
                  <a:srgbClr val="fcab40"/>
                </a:solidFill>
                <a:latin typeface="Verdana"/>
              </a:rPr>
              <a:t>scraps</a:t>
            </a:r>
            <a:r>
              <a:rPr b="0" lang="en-US" sz="3200" spc="-1" strike="noStrike">
                <a:solidFill>
                  <a:srgbClr val="b97c01"/>
                </a:solidFill>
                <a:latin typeface="Verdana"/>
              </a:rPr>
              <a:t> of cloth to make a qui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Long a: </a:t>
            </a: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a, ai, ay</a:t>
            </a:r>
            <a:br>
              <a:rPr sz="4400"/>
            </a:br>
            <a:r>
              <a:rPr b="1" i="1" lang="en-US" sz="4400" spc="-1" strike="noStrike">
                <a:solidFill>
                  <a:srgbClr val="ebd189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 – i  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d – l – m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p – s - y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gh-Frequency Words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village, watch, shoe, guess, won, science, prett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 subject you study in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name for a small tow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to tell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another word for beautifu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wear on your fo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you do when you don’t know the answ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is something that happened when you came in first pla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elling </a:t>
            </a:r>
            <a:br>
              <a:rPr sz="40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read, feel, easy, deep, seat, party, wheel, leave, windy, sleep, teeth, team, wreath, season, eagl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7162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 the opposite of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me a type of bi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rhyming p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e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gle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rea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hymes with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 the same thing a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ree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 the opposite of h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me an event people have fun 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ony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Pearl pulled the string on the robot’s mouth,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When she let go of the string,k the robot’s mouth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en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shu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opposit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cab40"/>
                </a:solidFill>
                <a:latin typeface="Arial"/>
              </a:rPr>
              <a:t>antonym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– b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ppy – s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- eas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new amazing words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thor’s purpos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aily Fix-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Science project are not ei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Science projects are not eas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It heps to read about them fri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b40"/>
                </a:solidFill>
                <a:latin typeface="Arial"/>
              </a:rPr>
              <a:t>It helps to read about them first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mmar:  Verb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bs are doing words that show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ing strong, interesting verbs helps readers create a mental pic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of verbs that tell about things people do in each of these pla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y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 antonyms in sentences contrasting Pearl and Wagner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4" name="Picture 20" descr="Pearl and Wagner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458200" y="5867280"/>
            <a:ext cx="487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unique contraption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981080" y="2209680"/>
          <a:ext cx="6096240" cy="3810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day we will read about robots at home.  Each robot is a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unique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contraption</a:t>
                      </a: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because it does different things to help us around the house.  What kind of robot would you want in your house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61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Verdana"/>
              </a:rPr>
              <a:t>Today we will learn about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553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ng e: 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ee, ee, ea, 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ords with long 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verb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61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971800" y="1828800"/>
          <a:ext cx="3927600" cy="467532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deki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qu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ra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olproo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ydr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ra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ntence Rea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brought the frisky puppies to the beac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armer looked behind the shed door for the skates and po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d she promise Bert that we would get the benche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de lunches for everybod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begin to have dreams the minute I go to slee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eacher felt sorry that one person did not get to read a ver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6160" y="4568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earl &amp; Wagn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562720" y="1752480"/>
          <a:ext cx="3089160" cy="4286520"/>
        </p:xfrm>
        <a:graphic>
          <a:graphicData uri="http://schemas.openxmlformats.org/drawingml/2006/table">
            <a:tbl>
              <a:tblPr/>
              <a:tblGrid>
                <a:gridCol w="3089160"/>
              </a:tblGrid>
              <a:tr h="42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ord Wall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95280" y="1371600"/>
          <a:ext cx="3886200" cy="518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ad           wind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el            slee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asy          tee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eep          te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at 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wrea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y 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eel         </a:t>
                      </a:r>
                      <a:r>
                        <a:rPr b="1" lang="en-US" sz="2800" spc="-1" strike="noStrike">
                          <a:solidFill>
                            <a:srgbClr val="fcab40"/>
                          </a:solidFill>
                          <a:latin typeface="Arial"/>
                        </a:rPr>
                        <a:t>eag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"/>
              </a:rPr>
              <a:t>Robots at Home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340 - 34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Laura McDow</cp:lastModifiedBy>
  <dcterms:modified xsi:type="dcterms:W3CDTF">2010-07-29T09:45:57Z</dcterms:modified>
  <cp:revision>21</cp:revision>
  <dc:subject/>
  <dc:title>Slide 1</dc:title>
</cp:coreProperties>
</file>